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AAD-0D20-4FA1-B0E2-F6E474EA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794-9C3C-4D41-9865-22ED9047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487-95EE-48CD-9DF3-D6BFC44C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A37-9C96-4CEC-870F-C2F77F0E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03C1-7F22-48FC-BD61-0CF42275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2FC2-7526-408C-B1A4-A304BBBF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9278-3705-4361-B2D3-9D57C300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A14A-959C-4A3B-A4A2-676DF8C2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6B6-D04F-44B0-A2F4-2501FD8E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8E9D-4DA4-46F1-9014-3894E469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338E-C3C4-4EFD-A90C-2A8538DE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0A2-3914-4ECD-A71E-8D15292D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2993-F5AB-48AD-979A-831814D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FF0F-A7D6-47D2-A9E8-E93B129D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DDDD-FBD7-426D-912A-C8CEBD83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36AD-8F63-49CD-96CD-D5C241EE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11A9-5236-43F2-A81B-EBA80ACF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6D6F-E75B-4159-9327-FC256A4F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FA45-6B04-46B9-84F6-3205A5E8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6271-4D6B-46DF-B3D1-4581901B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3A07-93B5-4908-8E84-AB61DFED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8F5F-049D-46B0-82B0-D41D73B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E08-5F4C-4EFC-A70E-60831F04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05FA-9B82-4D58-BC60-2BCBEDCC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3916E-EBD9-487F-BE48-AE75D8E6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ECE5A-F5B7-470C-993F-1B04195F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222FC-874E-4694-B58F-E2B75F9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02B8A-E3A9-4D58-88F0-3B63064A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380E-9C28-4C28-B348-822DC49A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0BAD-9A80-4FEF-8112-9DED6443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57E2-4E1C-4DD1-88AB-9B62F1CD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5FCA2-17DC-461F-92E6-AC00B62E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B8CF0-25F7-45C3-96AC-BF33E228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278-D13F-42D2-93A2-CF931D56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88E4-3FA0-4EBD-9FCE-8103F954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AABCF-9F75-4E0B-A3A1-0EE54FC0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1B846-E3A6-42A5-9A5E-47B8C322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0B30-ED15-4943-BFDC-C85F9178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8E1E7-0449-4069-B5D7-35ADD42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3779-8ED7-43F6-BDFA-8F10B67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567CB-90A7-4E95-8ACC-9ABE323F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3E43-4855-44FD-94CF-34957406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2B87-2EE3-4724-BD99-2A79FAD4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F8E5-BAB0-468D-AD4F-68BFCF7B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06F-23C8-4CE2-AAE8-45E4B215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4F69D-28FF-4F3C-AD16-E225D1A0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B14E-19A4-4411-9C97-5728F971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86BB-AA46-4D71-B60C-C2A74DCD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0F647-410E-4AE5-A0C7-CB05DCAD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B91E4-5998-4972-A985-54ADAD3E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11A52-C4C9-408E-87BC-766F4DB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651BB-FBE5-47BB-9C0E-2D2CA353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824AC-C737-44E6-B579-71C843C1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7769-6FF2-444A-9979-52097CE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805C3-E44A-4848-A1C1-4E01362B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BA9-B9FB-489F-9DA8-C6296C56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70617-0519-4086-9905-E19B1797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869-8B3C-4B37-AF0B-01A9624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FCB-D07B-4A37-A48E-9CD6D3AF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35F-882A-4EFF-9371-97C8BC13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69F4-1B7E-41A1-A2FB-957AEE67D32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6F4D-4739-49CF-9E8C-4F5B80A38AC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8A5-9640-43E7-97CC-27395BDD2F9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4F89-E390-4D30-B6A5-D126617FC1B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8577-DD25-481F-810D-3F9EBEB1C09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5" descr=""/>
          <p:cNvPicPr/>
          <p:nvPr/>
        </p:nvPicPr>
        <p:blipFill>
          <a:blip r:embed="rId1"/>
          <a:stretch/>
        </p:blipFill>
        <p:spPr>
          <a:xfrm>
            <a:off x="2664000" y="1292400"/>
            <a:ext cx="6291000" cy="41083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7"/>
          <p:cNvSpPr/>
          <p:nvPr/>
        </p:nvSpPr>
        <p:spPr>
          <a:xfrm>
            <a:off x="3733920" y="4394160"/>
            <a:ext cx="914400" cy="10083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reaction between an acid and b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roducts of a neutralization reaction are a salt and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H scale gives a measure of the concentration of positive hydrogen ions in a solutio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way of describing the acidic or basic strength of a solution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cidity of a solution can be expressed by using the pH sca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cale ranges from 0 to 1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ids range from 0 to 6, with 0 being the strongest ac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es range from 8 to 14, with 14 being the strongest b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re water, which is neither acid nor base, has a pH level of 7 or is neutr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0948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icators are substances that visibly show a change in the nature of a chemical syste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versal indicator- an acid/base indicator that shows, by color, the pH of a substa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304920" y="3809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657600" y="3809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467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30"/>
          <p:cNvGrpSpPr/>
          <p:nvPr/>
        </p:nvGrpSpPr>
        <p:grpSpPr>
          <a:xfrm>
            <a:off x="4038480" y="2133720"/>
            <a:ext cx="519120" cy="1447560"/>
            <a:chOff x="4038480" y="2133720"/>
            <a:chExt cx="519120" cy="1447560"/>
          </a:xfrm>
        </p:grpSpPr>
        <p:sp>
          <p:nvSpPr>
            <p:cNvPr id="251" name="AutoShape 10"/>
            <p:cNvSpPr/>
            <p:nvPr/>
          </p:nvSpPr>
          <p:spPr>
            <a:xfrm>
              <a:off x="4038480" y="2133720"/>
              <a:ext cx="519120" cy="1447560"/>
            </a:xfrm>
            <a:prstGeom prst="flowChartMagneticDisk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4142160" y="27259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3" name="Group 31" descr=""/>
          <p:cNvPicPr/>
          <p:nvPr/>
        </p:nvPicPr>
        <p:blipFill>
          <a:blip r:embed="rId2"/>
          <a:stretch/>
        </p:blipFill>
        <p:spPr>
          <a:xfrm>
            <a:off x="4559400" y="2120760"/>
            <a:ext cx="542880" cy="1476360"/>
          </a:xfrm>
          <a:prstGeom prst="rect">
            <a:avLst/>
          </a:prstGeom>
          <a:ln w="0">
            <a:noFill/>
          </a:ln>
        </p:spPr>
      </p:pic>
      <p:pic>
        <p:nvPicPr>
          <p:cNvPr id="254" name="Group 32" descr=""/>
          <p:cNvPicPr/>
          <p:nvPr/>
        </p:nvPicPr>
        <p:blipFill>
          <a:blip r:embed="rId3"/>
          <a:stretch/>
        </p:blipFill>
        <p:spPr>
          <a:xfrm>
            <a:off x="5095800" y="2120760"/>
            <a:ext cx="579600" cy="14763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33" descr=""/>
          <p:cNvPicPr/>
          <p:nvPr/>
        </p:nvPicPr>
        <p:blipFill>
          <a:blip r:embed="rId4"/>
          <a:stretch/>
        </p:blipFill>
        <p:spPr>
          <a:xfrm>
            <a:off x="562608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56" name="Group 29" descr=""/>
          <p:cNvPicPr/>
          <p:nvPr/>
        </p:nvPicPr>
        <p:blipFill>
          <a:blip r:embed="rId5"/>
          <a:stretch/>
        </p:blipFill>
        <p:spPr>
          <a:xfrm>
            <a:off x="3492360" y="2120760"/>
            <a:ext cx="543240" cy="1476360"/>
          </a:xfrm>
          <a:prstGeom prst="rect">
            <a:avLst/>
          </a:prstGeom>
          <a:ln w="0">
            <a:noFill/>
          </a:ln>
        </p:spPr>
      </p:pic>
      <p:pic>
        <p:nvPicPr>
          <p:cNvPr id="257" name="Group 28" descr=""/>
          <p:cNvPicPr/>
          <p:nvPr/>
        </p:nvPicPr>
        <p:blipFill>
          <a:blip r:embed="rId6"/>
          <a:stretch/>
        </p:blipFill>
        <p:spPr>
          <a:xfrm>
            <a:off x="2975040" y="2120760"/>
            <a:ext cx="542880" cy="1476360"/>
          </a:xfrm>
          <a:prstGeom prst="rect">
            <a:avLst/>
          </a:prstGeom>
          <a:ln w="0">
            <a:noFill/>
          </a:ln>
        </p:spPr>
      </p:pic>
      <p:pic>
        <p:nvPicPr>
          <p:cNvPr id="258" name="Group 27" descr=""/>
          <p:cNvPicPr/>
          <p:nvPr/>
        </p:nvPicPr>
        <p:blipFill>
          <a:blip r:embed="rId7"/>
          <a:stretch/>
        </p:blipFill>
        <p:spPr>
          <a:xfrm>
            <a:off x="2475000" y="2120760"/>
            <a:ext cx="549360" cy="147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26" descr=""/>
          <p:cNvPicPr/>
          <p:nvPr/>
        </p:nvPicPr>
        <p:blipFill>
          <a:blip r:embed="rId8"/>
          <a:stretch/>
        </p:blipFill>
        <p:spPr>
          <a:xfrm>
            <a:off x="1981080" y="2120760"/>
            <a:ext cx="549360" cy="1476360"/>
          </a:xfrm>
          <a:prstGeom prst="rect">
            <a:avLst/>
          </a:prstGeom>
          <a:ln w="0">
            <a:noFill/>
          </a:ln>
        </p:spPr>
      </p:pic>
      <p:pic>
        <p:nvPicPr>
          <p:cNvPr id="260" name="Group 33" descr=""/>
          <p:cNvPicPr/>
          <p:nvPr/>
        </p:nvPicPr>
        <p:blipFill>
          <a:blip r:embed="rId9"/>
          <a:stretch/>
        </p:blipFill>
        <p:spPr>
          <a:xfrm>
            <a:off x="623556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61" name="Group 33" descr=""/>
          <p:cNvPicPr/>
          <p:nvPr/>
        </p:nvPicPr>
        <p:blipFill>
          <a:blip r:embed="rId10"/>
          <a:stretch/>
        </p:blipFill>
        <p:spPr>
          <a:xfrm>
            <a:off x="685152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62" name="Group 33" descr=""/>
          <p:cNvPicPr/>
          <p:nvPr/>
        </p:nvPicPr>
        <p:blipFill>
          <a:blip r:embed="rId11"/>
          <a:stretch/>
        </p:blipFill>
        <p:spPr>
          <a:xfrm>
            <a:off x="7461360" y="2120760"/>
            <a:ext cx="6285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33"/>
          <p:cNvGrpSpPr/>
          <p:nvPr/>
        </p:nvGrpSpPr>
        <p:grpSpPr>
          <a:xfrm>
            <a:off x="8082000" y="2133720"/>
            <a:ext cx="604800" cy="1447560"/>
            <a:chOff x="8082000" y="2133720"/>
            <a:chExt cx="604800" cy="1447560"/>
          </a:xfrm>
        </p:grpSpPr>
        <p:sp>
          <p:nvSpPr>
            <p:cNvPr id="264" name="AutoShape 14"/>
            <p:cNvSpPr/>
            <p:nvPr/>
          </p:nvSpPr>
          <p:spPr>
            <a:xfrm>
              <a:off x="8082000" y="2133720"/>
              <a:ext cx="604800" cy="1447560"/>
            </a:xfrm>
            <a:prstGeom prst="flowChartMagneticDisk">
              <a:avLst/>
            </a:prstGeom>
            <a:solidFill>
              <a:srgbClr val="9842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8202600" y="2725920"/>
              <a:ext cx="42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Group 26" descr=""/>
          <p:cNvPicPr/>
          <p:nvPr/>
        </p:nvPicPr>
        <p:blipFill>
          <a:blip r:embed="rId12"/>
          <a:stretch/>
        </p:blipFill>
        <p:spPr>
          <a:xfrm>
            <a:off x="1438200" y="2120760"/>
            <a:ext cx="5558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26"/>
          <p:cNvGrpSpPr/>
          <p:nvPr/>
        </p:nvGrpSpPr>
        <p:grpSpPr>
          <a:xfrm>
            <a:off x="914400" y="2133720"/>
            <a:ext cx="533520" cy="1447560"/>
            <a:chOff x="914400" y="2133720"/>
            <a:chExt cx="533520" cy="1447560"/>
          </a:xfrm>
        </p:grpSpPr>
        <p:sp>
          <p:nvSpPr>
            <p:cNvPr id="268" name="AutoShape 7"/>
            <p:cNvSpPr/>
            <p:nvPr/>
          </p:nvSpPr>
          <p:spPr>
            <a:xfrm>
              <a:off x="914400" y="2133720"/>
              <a:ext cx="533520" cy="1447560"/>
            </a:xfrm>
            <a:prstGeom prst="flowChartMagneticDisk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1020960" y="2725920"/>
              <a:ext cx="32004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Group 26" descr=""/>
          <p:cNvPicPr/>
          <p:nvPr/>
        </p:nvPicPr>
        <p:blipFill>
          <a:blip r:embed="rId13"/>
          <a:stretch/>
        </p:blipFill>
        <p:spPr>
          <a:xfrm>
            <a:off x="371520" y="2120760"/>
            <a:ext cx="555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blogs.scientificamerican.com/lab-rat/files/2012/09/628px-PH_scale.png"/>
          <p:cNvPicPr/>
          <p:nvPr/>
        </p:nvPicPr>
        <p:blipFill>
          <a:blip r:embed="rId1"/>
          <a:stretch/>
        </p:blipFill>
        <p:spPr>
          <a:xfrm>
            <a:off x="479520" y="0"/>
            <a:ext cx="718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987480" y="66600"/>
            <a:ext cx="6315120" cy="1238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80520" y="137160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wo or more elements or compounds may combine to form a more complex compound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  +  X  →    AX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2Mg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 +  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2(g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 →    2Mg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composi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single compound breaks down into its component parts or simpler compound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X  →   A  +  X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3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→    Ca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(g)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835200" y="-36360"/>
            <a:ext cx="6791040" cy="1109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-360" y="1295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ingle Replacement: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a more active element takes the place of another element in a compound and sets the less active one free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  +  BX  →    AX  +  B  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(aq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→    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(aq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Double Replacemen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arts of two compounds switch places to form two new compounds. Two reactants yield two new produc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.  AB + XY ---&gt; AY + XB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NaCl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--&gt;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+ HCl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755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08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ids are chemicals in which the positive ion is a hydrogen at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Cl or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n mixed with water they produce a free hydrogen ion that combines with a water molecule to produce a hydronium 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+1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 acid is a substance that releases hydrogen ions when it breaks apart in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560"/>
            <a:ext cx="7238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te sou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act with metals to produce hydrog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2HCl + 2N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2NaCl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duct electric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es are substances in which the negative ion is an ion called hydroxide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(OH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example;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aOH, or KO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d to make soap, household cleaners, fertilizers, and explosives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4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el slippe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duct electri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Caustic. That is they eat away at certain substances and they are irritating or damaging to ski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alt is a compound formed from the positive metal ions of a base and a negative nonmetal ion of an aci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Cl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e the product of a reaction between an acid and a base, along with wa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4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form crystals when in solid form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usually have a higher hardness because of their ionic bond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 acid plus a base yields a salt and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aCl + HO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aCl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8:55:24Z</dcterms:created>
  <dc:creator>Pat and Tina Hayhurst</dc:creator>
  <dc:description/>
  <dc:language>en-US</dc:language>
  <cp:lastModifiedBy>jcameron</cp:lastModifiedBy>
  <dcterms:modified xsi:type="dcterms:W3CDTF">2013-04-25T15:59:17Z</dcterms:modified>
  <cp:revision>54</cp:revision>
  <dc:subject/>
  <dc:title>Acids, Bases, Salts and 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joewalker.com/teachers/hayhurst</vt:lpwstr>
  </property>
  <property fmtid="{D5CDD505-2E9C-101B-9397-08002B2CF9AE}" pid="9" name="LinkColor">
    <vt:r8>16711680</vt:r8>
  </property>
  <property fmtid="{D5CDD505-2E9C-101B-9397-08002B2CF9AE}" pid="10" name="MailAddress">
    <vt:lpwstr>Hayhurst1@aol.com</vt:lpwstr>
  </property>
  <property fmtid="{D5CDD505-2E9C-101B-9397-08002B2CF9AE}" pid="11" name="NavBtnPos">
    <vt:r8>4</vt:r8>
  </property>
  <property fmtid="{D5CDD505-2E9C-101B-9397-08002B2CF9AE}" pid="12" name="Other">
    <vt:lpwstr>Copyright (c) 1999-2000 Pat Hayhurst
Last Updated: 3/9/2000</vt:lpwstr>
  </property>
  <property fmtid="{D5CDD505-2E9C-101B-9397-08002B2CF9AE}" pid="13" name="OutputDir">
    <vt:lpwstr>C:\My Documents\Web Page at JW\fruitvale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255</vt:r8>
  </property>
</Properties>
</file>